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318F-DB69-422F-A0A7-7EBD1FD5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624-E570-4CB0-8BD8-DED1AB60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64A8-4E2B-4BA0-99C1-10D0C3D5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DDA9-EAA2-4A32-A303-02CD3554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E91F-0622-4ADC-BA59-995F3EE2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6687-5E90-4EB2-B723-FCE82B16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D0DB-C8A0-4B25-A520-D636C656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895-BF8E-4C6E-87C8-D30F102C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2580-F05A-434C-89E1-8A67B09F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358-BCF9-4F33-85C1-9AE24B47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67D-4B5D-4B44-8317-5AFC119B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CDD9-9820-4299-BB64-45344032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4893-A328-47FC-965A-14BF812CE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  Clase 6nh(601)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6 de febr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39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e gustan los depor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comes en el desayu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comes en el almuerz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comes en la ce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comes cuando tienes mucha hamb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os verbos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TERESAR, ABURRIR, GUSTAR</a:t>
            </a:r>
            <a:br>
              <a:rPr sz="4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Expressing what interests, bores or pleases yo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320" y="18748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Interesar (to interest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Aburrir (to b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oth function the same as in English,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Te aburre el béisbo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, el béisbol me inte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Te aburren los depor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, los deportes me interes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38080" y="3276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Does baseball bo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838080" y="4114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No, baseball interests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990720" y="50292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Do sports bo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38080" y="59436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No, sports interest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Gustar (to please / </a:t>
            </a: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to like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erb conveys the mea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t its true meaning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ple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anish way of saying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like baseb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”  is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seball pleases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e gusta el béisb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, me gusta mucho el béis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e gustan los deportes en gene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, me gust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38080" y="3200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Does baseball please you?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DO YOU LIKE BASE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85800" y="41911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Yes it pleases me very much.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YES I LIKE IT VERY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38080" y="48769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Do sports in general please yo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DO YOU GENERALLY LIKE SPOR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762120" y="5943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Yes, they please me.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YES, I LIK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Gust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often used with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fin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ell what you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Te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gu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an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Si. No me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gu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r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Te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gu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838080" y="28954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Do you </a:t>
            </a:r>
            <a:r>
              <a:rPr b="0" i="1" lang="es-ES_tradnl" sz="2400" spc="-1" strike="noStrike">
                <a:solidFill>
                  <a:srgbClr val="008000"/>
                </a:solidFill>
                <a:latin typeface="Arial"/>
              </a:rPr>
              <a:t>like</a:t>
            </a: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ff0000"/>
                </a:solidFill>
                <a:latin typeface="Arial"/>
              </a:rPr>
              <a:t>to win</a:t>
            </a: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?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Yes. I don’t </a:t>
            </a: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like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to lose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838080" y="4038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Si, (No)  </a:t>
            </a:r>
            <a:r>
              <a:rPr b="0" i="1" lang="es-ES_tradnl" sz="2400" spc="-1" strike="noStrike">
                <a:solidFill>
                  <a:srgbClr val="008000"/>
                </a:solidFill>
                <a:latin typeface="Arial"/>
              </a:rPr>
              <a:t>me gusta</a:t>
            </a: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ff0000"/>
                </a:solidFill>
                <a:latin typeface="Arial"/>
              </a:rPr>
              <a:t>comer</a:t>
            </a: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17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9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(1-4) p.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66840" y="325116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0880" y="60948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21:48:00Z</dcterms:created>
  <dc:creator>Helen Zumaeta</dc:creator>
  <dc:description/>
  <dc:language>en-US</dc:language>
  <cp:lastModifiedBy>Helen Zumaeta</cp:lastModifiedBy>
  <cp:lastPrinted>2013-02-26T13:33:18Z</cp:lastPrinted>
  <dcterms:modified xsi:type="dcterms:W3CDTF">2013-02-26T20:55:14Z</dcterms:modified>
  <cp:revision>20</cp:revision>
  <dc:subject/>
  <dc:title>Me llamo ________  Clase 7 IM La fecha es el 20 de enero del 2011</dc:title>
</cp:coreProperties>
</file>